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png" ContentType="image/png"/>
  <Override PartName="/ppt/media/image16.png" ContentType="image/png"/>
  <Override PartName="/ppt/media/image15.gif" ContentType="image/gif"/>
  <Override PartName="/ppt/media/image1.png" ContentType="image/png"/>
  <Override PartName="/ppt/media/image3.jpeg" ContentType="image/jpeg"/>
  <Override PartName="/ppt/media/image14.gif" ContentType="image/gif"/>
  <Override PartName="/ppt/media/image2.jpeg" ContentType="image/jpeg"/>
  <Override PartName="/ppt/media/image8.gif" ContentType="image/gif"/>
  <Override PartName="/ppt/media/image5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6FCF-7BFD-489E-8ABF-759B7CEF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6A0-22BC-4F73-B169-0FE22DBA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2FB-032F-4669-82C7-1457BFB8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41E-947F-46F2-92A8-643F2268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C2DF-837F-4705-A749-5AA5F075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8EAE-A1B8-4923-BB2B-60440795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F486-30D1-473F-8F29-31CB755D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B425-9C3D-4D50-B3C2-C7CE0D8D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B771-DE3D-4044-844F-38E725BC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4E51-5B6C-4734-AF8D-AB28D1AD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32B2-66F6-484B-A87A-B940FF32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206B-5FFD-448C-BC36-99BCC10E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FDD2-4F89-41DA-9F9F-F662CBEF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F491-C9FE-4815-AA90-0EAE8E2E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338A-115F-4ABB-90EB-81BF6EFD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FB0F-FB2C-4DF4-BDA6-5C5470D2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8504-4ACB-48B3-AFDF-627D8207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60FC9-2E8A-44D9-AB54-8DE33E81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5D413-ABB0-44E9-B795-490A44B1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23E08-46F7-436B-8D07-8859A45C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6CE66-B7EC-46C7-95FC-6D08ECCF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31C7D-7B65-41FC-8C70-902C5335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2D7-5085-4A6E-87C2-4EB8F9D8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0DCEF-B4B4-44C1-AE46-17F8B30B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674B5-2730-43DE-B11C-3BA2659E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F5950-7DC9-449C-8C2F-E83FC5E7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167EF-FC34-4DE2-BC04-D0F13674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6EA80-BC2C-43C9-B661-24ADB99E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A8AA4-C0CA-4985-BF08-86611F70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92832-9439-492A-8716-7C1C3673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34223-9988-4ECB-9C48-07804CBF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B01C6-D9D1-46A6-92D2-F62C49C6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7AF44-42C2-4C4E-9428-28EBF04A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B11D-8ECE-4F84-8D8C-F0CDFC75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07F17-3197-4FBE-B0B2-275974E0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15A88-4D9E-4A39-A9AA-6D6FBC36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C19DF-9237-41F2-AE72-AEF0D2E3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588F2-6B8E-467E-8464-874590EA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19987-F429-4FF0-ACA9-162BD916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28507-53F4-449D-935D-A9A6138A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86EF0-3BF6-423A-9A0B-7E5A4E14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593F5-735C-49EB-AC9B-AB9BCE66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932BF-2C2D-44DA-8093-9E859915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34D1F-5A25-4AA3-BC5B-10E4B593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2135-C96E-42E7-B3D0-FBEBB747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5075E-8190-4AEF-AC60-4C604F93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E132B-FAA3-48CB-A26E-C6486B27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E82A0-906F-431F-9F89-39A513D3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000DD-C145-451C-A985-8C71E877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4C011-80DB-428D-8279-32193CC6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A3E43-1AC4-4B46-A53C-3AB32C66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B3A3D-411F-47FF-AE3C-89D1D867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C304B-D885-4D70-BAC9-8C4B4EA1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CEBE9-1B02-4A22-84D0-8B07C7AA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66A5E-6F1E-4E60-9886-7CCD0EAA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50BA-4B74-4A39-8A2C-92C7895D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40A70-416C-4D5B-92BD-2BA9C3CA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2F7FD-A894-400B-B37C-1BB1BDD5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B65CE-3D3A-4637-A3CD-10C712CF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01A28-9E1A-4D09-8B8F-D749C18A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FB8DB-05C3-4A6A-AB24-C74EB844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DCAF3-4A2A-4E50-BE76-B151919C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AD7F3-96A8-453D-9086-14D57802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EDF05-7CE6-4F90-B842-5899E829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4F9E3-E707-4EF8-AE6F-F4BC6AAF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2BCE9-E29B-4272-B473-682101B2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3E7-2AD9-49CF-B051-56A70718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C91CA-9E05-46A8-8E3C-6AE4A07C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573A7-0809-4849-B7A2-EBA83D97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0E586-89A7-4AAD-8CD0-B7BE8AE2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4813F5-5ECA-4093-AAAB-2C2B05F0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306DF5-506B-4A43-9DEB-0F645F44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42125D-ED8B-4ED3-AFC4-EC8413A2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9D7A93-6351-4BC4-A415-171D3D1D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14F25B-B4EF-497F-A706-F49EE98B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1A9F60-950A-4FD6-BED0-461A7BC5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C30A86-9AAB-4572-BD37-87B133E8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750-7E05-44DB-A80B-13EAB726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BC7527-011F-43BC-9EBC-D08F5958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D99DDE-B399-4BFF-8E7E-218335F0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4D3C92-86BC-471B-8A30-8718D348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C3AFFC-60D1-4C1A-9FF6-A0DCB3D0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53DF91-4A55-404F-B121-7230A881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4838-7846-4633-8450-86BC4786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DB21-41FD-459A-B710-0C20575554E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985B-A0D4-4A97-A6C9-75C30855FEA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C2A1-1B61-4C42-819A-5706D538FEE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1834-24AB-4E9A-B8F6-400D7520558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B899-FF39-479E-8650-FBB60783C2A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67C3-D50A-48B1-8C92-20CE2130757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2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BED0-A51F-413A-A8DB-B0071F3AE8B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609480" y="324000"/>
            <a:ext cx="8248680" cy="205416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52388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nstructivist Approach to Edu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10" descr="small_bulb"/>
          <p:cNvPicPr/>
          <p:nvPr/>
        </p:nvPicPr>
        <p:blipFill>
          <a:blip r:embed="rId2"/>
          <a:stretch/>
        </p:blipFill>
        <p:spPr>
          <a:xfrm>
            <a:off x="3429000" y="2438280"/>
            <a:ext cx="2235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4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TEN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allow students to use their new knowledge and continue to explore its implic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pply knowledge to other situ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consider the effects of their knowle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pply to their own worl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relate to other concep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MCj03980690000[1]"/>
          <p:cNvPicPr/>
          <p:nvPr/>
        </p:nvPicPr>
        <p:blipFill>
          <a:blip r:embed="rId1"/>
          <a:stretch/>
        </p:blipFill>
        <p:spPr>
          <a:xfrm>
            <a:off x="6934320" y="1905120"/>
            <a:ext cx="1806480" cy="1527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MCj02958790000[1]"/>
          <p:cNvPicPr/>
          <p:nvPr/>
        </p:nvPicPr>
        <p:blipFill>
          <a:blip r:embed="rId2"/>
          <a:stretch/>
        </p:blipFill>
        <p:spPr>
          <a:xfrm>
            <a:off x="6858000" y="4114800"/>
            <a:ext cx="187956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tend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re given a set of scenarios, including different disorders of the digestive system, digestion of organic compounds, etc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pply their knowledge of the digestive system to these scenarios to figure out what is going 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6095880" y="4952880"/>
            <a:ext cx="13240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5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VALU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oth students and teachers determine how much learning and understanding has taken pla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f-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acher observ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ility to apply to other top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ance 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rtfoli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ubr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4" descr="MMj02866740000[1]"/>
          <p:cNvPicPr/>
          <p:nvPr/>
        </p:nvPicPr>
        <p:blipFill>
          <a:blip r:embed="rId1"/>
          <a:stretch/>
        </p:blipFill>
        <p:spPr>
          <a:xfrm>
            <a:off x="5943600" y="2895480"/>
            <a:ext cx="1441440" cy="19051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MMj02831940000[1]"/>
          <p:cNvPicPr/>
          <p:nvPr/>
        </p:nvPicPr>
        <p:blipFill>
          <a:blip r:embed="rId2"/>
          <a:stretch/>
        </p:blipFill>
        <p:spPr>
          <a:xfrm>
            <a:off x="7238880" y="4876920"/>
            <a:ext cx="15526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valuat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responses to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284796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structivism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2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Constructivism is a philosophy about learning that proposes learners need to build their own understanding of new ideas.”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Source: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http://iisme.5ecommunity.org/index.php?area_id=56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6" descr="MPj03829910000[1]"/>
          <p:cNvPicPr/>
          <p:nvPr/>
        </p:nvPicPr>
        <p:blipFill>
          <a:blip r:embed="rId1"/>
          <a:stretch/>
        </p:blipFill>
        <p:spPr>
          <a:xfrm>
            <a:off x="3657600" y="3962520"/>
            <a:ext cx="1795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5e’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ng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pl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pl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t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valu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5e model was originally proposed by the BSCS (Biological Science Curriculum Study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4" descr="content_cd"/>
          <p:cNvPicPr/>
          <p:nvPr/>
        </p:nvPicPr>
        <p:blipFill>
          <a:blip r:embed="rId1"/>
          <a:stretch/>
        </p:blipFill>
        <p:spPr>
          <a:xfrm>
            <a:off x="4648320" y="1752480"/>
            <a:ext cx="37335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1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NGAG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peak student interest and get them personally involved in the less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cess prior knowle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es curios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ts students to ask the WHY ques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tivates students to lear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ts students atten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4" descr="MCj04042630000[1]"/>
          <p:cNvPicPr/>
          <p:nvPr/>
        </p:nvPicPr>
        <p:blipFill>
          <a:blip r:embed="rId1"/>
          <a:stretch/>
        </p:blipFill>
        <p:spPr>
          <a:xfrm>
            <a:off x="5748480" y="3014640"/>
            <a:ext cx="18381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ngag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 Without a Stomach Vid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2905200" cy="309564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4038480" y="2362320"/>
            <a:ext cx="4038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watch a 4 ½ minute video about Jonas, a man who attempted to commit suicide by swallowing bleach. In doing so, Jonas lost many of the organs of his digestive system, including his stomach. Jonas undergoes a radical procedure, in which his intestine is connected to his esophagu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are then asked to generate questions they have about Jonas’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2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OR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get students involved in the topic; providing them with a chance to find the solution for themsel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work togeth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must make their own deci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generate questions and ideas while within the situation or proble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11" descr="MCPE03230_0000[1]"/>
          <p:cNvPicPr/>
          <p:nvPr/>
        </p:nvPicPr>
        <p:blipFill>
          <a:blip r:embed="rId1"/>
          <a:stretch/>
        </p:blipFill>
        <p:spPr>
          <a:xfrm>
            <a:off x="5943600" y="2819520"/>
            <a:ext cx="2840040" cy="1393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9" descr="MMj03957550000[1]"/>
          <p:cNvPicPr/>
          <p:nvPr/>
        </p:nvPicPr>
        <p:blipFill>
          <a:blip r:embed="rId2"/>
          <a:stretch/>
        </p:blipFill>
        <p:spPr>
          <a:xfrm>
            <a:off x="6248520" y="5181480"/>
            <a:ext cx="220968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or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re partnered up and work through a series of questions about the digestive system with the assistance of their textbook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s are based on Jonas’ situat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choose 2 questions from the prior brainstorming to answer in addition to the questions the teacher handed ou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3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AI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students are given a chance to take what they have learned so far and figure out what it mea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re asked to explain their experien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ass discussion is hel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questions are gener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definitions are explor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4" descr="MCj03605160000[1]"/>
          <p:cNvPicPr/>
          <p:nvPr/>
        </p:nvPicPr>
        <p:blipFill>
          <a:blip r:embed="rId1"/>
          <a:stretch/>
        </p:blipFill>
        <p:spPr>
          <a:xfrm>
            <a:off x="6095880" y="1981080"/>
            <a:ext cx="2649600" cy="1632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MCj03907920000[1]"/>
          <p:cNvPicPr/>
          <p:nvPr/>
        </p:nvPicPr>
        <p:blipFill>
          <a:blip r:embed="rId2"/>
          <a:stretch/>
        </p:blipFill>
        <p:spPr>
          <a:xfrm>
            <a:off x="6324480" y="4419720"/>
            <a:ext cx="228600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ain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lass goes over their findings, with the teacher facilitating the discussion and correcting misconceptions a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share the answers to the questions that they ch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have a diagram of the digestive system that they can use to fill in important points as they come up in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 has a supplementary power point to illustrate student find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6:50:14Z</dcterms:created>
  <dc:creator>elpalme</dc:creator>
  <dc:description/>
  <dc:language>en-US</dc:language>
  <cp:lastModifiedBy>elpalme</cp:lastModifiedBy>
  <dcterms:modified xsi:type="dcterms:W3CDTF">2012-02-13T19:02:03Z</dcterms:modified>
  <cp:revision>5</cp:revision>
  <dc:subject/>
  <dc:title>The 5e Instructional Model</dc:title>
</cp:coreProperties>
</file>