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png" ContentType="image/png"/>
  <Override PartName="/ppt/media/image16.png" ContentType="image/png"/>
  <Override PartName="/ppt/media/image15.gif" ContentType="image/gif"/>
  <Override PartName="/ppt/media/image1.png" ContentType="image/png"/>
  <Override PartName="/ppt/media/image3.jpeg" ContentType="image/jpeg"/>
  <Override PartName="/ppt/media/image14.gif" ContentType="image/gif"/>
  <Override PartName="/ppt/media/image2.jpeg" ContentType="image/jpeg"/>
  <Override PartName="/ppt/media/image8.gif" ContentType="image/gif"/>
  <Override PartName="/ppt/media/image5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B0B-7982-46C3-8CE0-825C8FD2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FA3-F6F5-4014-9BA2-F2CC7471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4A5-1F17-49AF-80C8-6E0BB620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296A-4275-413B-B64F-B00AA650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0EDD-9B56-458C-97AF-F54CD1CE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B7D2-082D-46A6-AA41-52054615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6886-961A-4ECF-B91D-22AE274C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9819-EF80-416A-BE4F-2DF7E873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E3A7-D608-4F1E-AEC1-7D16DAB6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F217-3838-4335-82FD-663B8820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2C77-BD46-4295-99A6-068D093E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277-1074-459C-849D-DD433CD0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F344-7F22-48E4-AB9F-7AE378D2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DEA0-00F1-44ED-88CC-98AD9EC3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18D5-EB99-4D77-BC7C-519B5A6E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D9AD-4A3D-4F7C-961F-1DF30A85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44CD-97BC-48A6-8A38-CCE8A1B9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77745-6141-47BF-AFEB-C63592E3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20295-2DEF-483C-B89F-3967B80C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14907-3210-41A7-89D8-FD36FCC0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604BD-E06C-486B-B566-88715C48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79EB2-AF89-465F-A8B1-B6F92343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A723-EFE2-4419-9BC2-80E24B2B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BDFED-5F8E-4CFE-91B2-0F255E54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49BCC-B732-4B9F-9995-23526AB0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5AA65-2F77-44E2-857F-18AA1D71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72C8F-ADE1-4872-9B58-56D271C4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D6EA4-73A9-4210-8200-8389B02C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3ACF2-B384-45CF-8F28-71CFE113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FB605-9808-4AB7-8379-A6637F96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F38DB-00C4-4F3C-B3E0-05C8A401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EC773-AB13-4CB5-89A3-324F2670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A2A76-A823-48F0-A5F6-906179EE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B21-F0BD-48F8-AC3D-48118C38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3E5F9-7925-47A2-B4E9-3EB1B60E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7C2D2-25AE-4D6B-B703-FA876F81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F6B2E-0CBA-43A9-9E79-5983EE6D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5FC24-84F6-485E-BF61-A9E2C286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92DCE-C086-4E65-B18F-54827D59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93E86-CFF8-46A9-9D78-2B86D261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D1C5E-7F8B-4736-BBCF-D767AF03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AFA71-F5DD-482E-ABE8-DA915BF0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774E0-0B9A-4D2A-9219-B022676A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AEF5E-4673-49E5-B826-A555BBC6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BEC7-9492-4B81-8E0D-6859600E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56873-3B25-44B1-9D4B-A844DCBC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4220C-2DA2-4CD3-A8AA-EFD226CD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C3C7C-EE07-45C4-8D23-1C7C7599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C920C-6211-4366-9A0B-228D73E1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E2397-1972-46E6-BABD-6BF4B3E3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7A4E2-8A94-4092-9C76-A094756E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0430A-82C5-498A-AD8A-BB1BC991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BABBD-1132-4114-9EFB-934A2C8C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2EE35-79B2-498F-9BB9-F0A00083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46CDB-F28F-467D-A327-7249B1CD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EA30-4956-4349-97FC-29D4627E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BCCB8-AF7E-4F7D-B215-032880B4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BC4D2-771D-40D6-A902-18131E98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4C2D2-35B2-404A-9316-796E0CD0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0FFA3-2A8F-47A3-83F0-62676F38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7A96B-8C4C-42A0-B1FF-C80E5582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2AE0A-52D7-40C2-939F-89B2DD0F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A8AC7-36A6-4F2A-A7B1-A96506EF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4FA10-2860-4A12-B977-B276B17C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A9AED-F47A-4454-B9E2-2ED9CA76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06BA7-A909-4E48-8B52-BA18A2FE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49E0-3BD7-4C75-8013-4D174E23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4BF6D-35A8-4339-A650-26DCF7F4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8C5B9-0282-45CA-88CA-D7D148ED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5B4D8-DB37-43BC-88E6-2F9AE7F3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FA60F1-F876-47DC-B59E-9D779F5B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5A464E-1133-4374-A193-F100ADFA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4AE514-3252-48A0-A4CB-3B95455C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9AFFDD-A7E0-49BD-A657-FD4BCBEC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A1ECB0-F607-4D09-AA45-201403F1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80C199-6635-4064-9499-5050049D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4F0EE3-4050-4212-8631-521A299F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E6F-4B77-428F-A35E-D2109F2F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42C30D-541F-476D-A6C7-1D8C59E9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A89C32-8CB8-49D6-B4E7-6B5EBF08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FE7EAB-9376-4308-942B-F4B66633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890C44-F55B-4E09-9980-1895B5F7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A5782B-B0BF-4FF5-9873-29C56260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2FF-9DA9-477B-96E4-DD3F51E2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73C9-00F6-4452-9B5B-494FA805A43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239E-70DF-437F-A547-56B473FA6AC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4B22-CF5A-4828-96B7-E8F68627890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551F-1C1A-4E5F-A10F-5B1654892FF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739C-F655-45BA-B3C9-7828E7C2259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47F3-1F15-42BF-BA42-27D8BE8444A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2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4CD6-8FAC-4189-A83B-8DA44F46EE9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609480" y="324000"/>
            <a:ext cx="8248680" cy="205416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52388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nstructivist Approach to Edu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10" descr="small_bulb"/>
          <p:cNvPicPr/>
          <p:nvPr/>
        </p:nvPicPr>
        <p:blipFill>
          <a:blip r:embed="rId2"/>
          <a:stretch/>
        </p:blipFill>
        <p:spPr>
          <a:xfrm>
            <a:off x="3429000" y="2438280"/>
            <a:ext cx="2235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4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TEN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allow students to use their new knowledge and continue to explore its implic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pply knowledge to other situ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consider the effects of their knowle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pply to their own worl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relate to other concep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MCj03980690000[1]"/>
          <p:cNvPicPr/>
          <p:nvPr/>
        </p:nvPicPr>
        <p:blipFill>
          <a:blip r:embed="rId1"/>
          <a:stretch/>
        </p:blipFill>
        <p:spPr>
          <a:xfrm>
            <a:off x="6934320" y="1905120"/>
            <a:ext cx="1806480" cy="1527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MCj02958790000[1]"/>
          <p:cNvPicPr/>
          <p:nvPr/>
        </p:nvPicPr>
        <p:blipFill>
          <a:blip r:embed="rId2"/>
          <a:stretch/>
        </p:blipFill>
        <p:spPr>
          <a:xfrm>
            <a:off x="6858000" y="4114800"/>
            <a:ext cx="187956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tend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re given a set of scenarios, including different disorders of the digestive system, digestion of organic compounds, etc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pply their knowledge of the digestive system to these scenarios to figure out what is going 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6095880" y="4952880"/>
            <a:ext cx="13240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5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VALU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oth students and teachers determine how much learning and understanding has taken pla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f-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acher observ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ility to apply to other top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ance 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rtfoli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ubr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4" descr="MMj02866740000[1]"/>
          <p:cNvPicPr/>
          <p:nvPr/>
        </p:nvPicPr>
        <p:blipFill>
          <a:blip r:embed="rId1"/>
          <a:stretch/>
        </p:blipFill>
        <p:spPr>
          <a:xfrm>
            <a:off x="5943600" y="2895480"/>
            <a:ext cx="1441440" cy="19051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MMj02831940000[1]"/>
          <p:cNvPicPr/>
          <p:nvPr/>
        </p:nvPicPr>
        <p:blipFill>
          <a:blip r:embed="rId2"/>
          <a:stretch/>
        </p:blipFill>
        <p:spPr>
          <a:xfrm>
            <a:off x="7238880" y="4876920"/>
            <a:ext cx="15526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valuat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responses to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284796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structivism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2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Constructivism is a philosophy about learning that proposes learners need to build their own understanding of new ideas.”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Source: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http://iisme.5ecommunity.org/index.php?area_id=56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6" descr="MPj03829910000[1]"/>
          <p:cNvPicPr/>
          <p:nvPr/>
        </p:nvPicPr>
        <p:blipFill>
          <a:blip r:embed="rId1"/>
          <a:stretch/>
        </p:blipFill>
        <p:spPr>
          <a:xfrm>
            <a:off x="3657600" y="3962520"/>
            <a:ext cx="1795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5e’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ng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pl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pl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t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valu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5e model was originally proposed by the BSCS (Biological Science Curriculum Study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4" descr="content_cd"/>
          <p:cNvPicPr/>
          <p:nvPr/>
        </p:nvPicPr>
        <p:blipFill>
          <a:blip r:embed="rId1"/>
          <a:stretch/>
        </p:blipFill>
        <p:spPr>
          <a:xfrm>
            <a:off x="4648320" y="1752480"/>
            <a:ext cx="37335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1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NGAG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peak student interest and get them personally involved in the less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cess prior knowle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es curios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ts students to ask the WHY ques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tivates students to lear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ts students atten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4" descr="MCj04042630000[1]"/>
          <p:cNvPicPr/>
          <p:nvPr/>
        </p:nvPicPr>
        <p:blipFill>
          <a:blip r:embed="rId1"/>
          <a:stretch/>
        </p:blipFill>
        <p:spPr>
          <a:xfrm>
            <a:off x="5748480" y="3014640"/>
            <a:ext cx="18381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ngag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 Without a Stomach Vid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2905200" cy="309564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4038480" y="2362320"/>
            <a:ext cx="4038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watch a 4 ½ minute video about Jonas, a man who attempted to commit suicide by swallowing bleach. In doing so, Jonas lost many of the organs of his digestive system, including his stomach. Jonas undergoes a radical procedure, in which his intestine is connected to his esophagu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are then asked to generate questions they have about Jonas’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2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OR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get students involved in the topic; providing them with a chance to find the solution for themsel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work togeth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must make their own deci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generate questions and ideas while within the situation or proble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11" descr="MCPE03230_0000[1]"/>
          <p:cNvPicPr/>
          <p:nvPr/>
        </p:nvPicPr>
        <p:blipFill>
          <a:blip r:embed="rId1"/>
          <a:stretch/>
        </p:blipFill>
        <p:spPr>
          <a:xfrm>
            <a:off x="5943600" y="2819520"/>
            <a:ext cx="2840040" cy="1393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9" descr="MMj03957550000[1]"/>
          <p:cNvPicPr/>
          <p:nvPr/>
        </p:nvPicPr>
        <p:blipFill>
          <a:blip r:embed="rId2"/>
          <a:stretch/>
        </p:blipFill>
        <p:spPr>
          <a:xfrm>
            <a:off x="6248520" y="5181480"/>
            <a:ext cx="220968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or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re partnered up and work through a series of questions about the digestive system with the assistance of their textbook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s are based on Jonas’ situat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choose 2 questions from the prior brainstorming to answer in addition to the questions the teacher handed ou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3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AI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students are given a chance to take what they have learned so far and figure out what it mea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re asked to explain their experien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ass discussion is hel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questions are gener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definitions are explor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4" descr="MCj03605160000[1]"/>
          <p:cNvPicPr/>
          <p:nvPr/>
        </p:nvPicPr>
        <p:blipFill>
          <a:blip r:embed="rId1"/>
          <a:stretch/>
        </p:blipFill>
        <p:spPr>
          <a:xfrm>
            <a:off x="6095880" y="1981080"/>
            <a:ext cx="2649600" cy="1632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MCj03907920000[1]"/>
          <p:cNvPicPr/>
          <p:nvPr/>
        </p:nvPicPr>
        <p:blipFill>
          <a:blip r:embed="rId2"/>
          <a:stretch/>
        </p:blipFill>
        <p:spPr>
          <a:xfrm>
            <a:off x="6324480" y="4419720"/>
            <a:ext cx="228600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ain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lass goes over their findings, with the teacher facilitating the discussion and correcting misconceptions a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share the answers to the questions that they ch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have a diagram of the digestive system that they can use to fill in important points as they come up in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 has a supplementary power point to illustrate student find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6:50:14Z</dcterms:created>
  <dc:creator>elpalme</dc:creator>
  <dc:description/>
  <dc:language>en-US</dc:language>
  <cp:lastModifiedBy>elpalme</cp:lastModifiedBy>
  <dcterms:modified xsi:type="dcterms:W3CDTF">2012-02-13T19:02:03Z</dcterms:modified>
  <cp:revision>5</cp:revision>
  <dc:subject/>
  <dc:title>The 5e Instructional Model</dc:title>
</cp:coreProperties>
</file>