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png" ContentType="image/png"/>
  <Override PartName="/ppt/media/image16.png" ContentType="image/png"/>
  <Override PartName="/ppt/media/image15.gif" ContentType="image/gif"/>
  <Override PartName="/ppt/media/image1.png" ContentType="image/png"/>
  <Override PartName="/ppt/media/image3.jpeg" ContentType="image/jpeg"/>
  <Override PartName="/ppt/media/image14.gif" ContentType="image/gif"/>
  <Override PartName="/ppt/media/image2.jpeg" ContentType="image/jpeg"/>
  <Override PartName="/ppt/media/image8.gif" ContentType="image/gif"/>
  <Override PartName="/ppt/media/image5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113-1296-4D6B-9F52-91EF57A5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CAF7-888E-4584-9C11-CCB58CDF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8884-0D91-442D-B64D-57368C42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8361-067E-4DAE-98ED-7E60251A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8F8B-DBC5-47FB-B2B5-D492C722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64E4-B9B3-4EA7-A0D1-E9CC4480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F088-319A-4E8C-A66D-8D976B81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7287-BA01-4026-85C0-752FA1EC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00E8-0971-4D91-9006-9FEA5EF2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5A37-A747-41BF-99E3-1FD90977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0977-6B8C-437B-8A07-0C6CAC3C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1286-BD04-4B0B-93F0-28C17382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04A7-6AF6-41F6-8D99-A72FD569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B517-826E-4B06-9FCC-6643AEEC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0549-B153-495B-A4B3-4B159C91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B6B0-662F-44D6-AF38-17EA47E7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2586-E38A-43A5-925B-F0878DCB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BA443-27E6-41A9-AB07-E986E954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8FC4D-FF68-4D53-8051-5799AB87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2979B-311A-419B-AA1A-60B5F33A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65826-34FD-4019-AA72-1A5F1FFD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C7A2C-682A-4CC6-A8ED-4AEDC99E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A4A4-E21B-40CE-90A5-F83E3D71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68EA6-2779-4B71-A7B1-E5FD0341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B5C45-E1C3-428A-947A-AA0DA959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A84F8-77E1-449E-9EAC-90F3C457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27FBF-9C9A-427B-80C0-645EB26D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B89B3-F27A-43AF-88E6-B332B3B3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362A1-C371-4CD3-8EC1-DCA0FE4E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4A471-712D-4C51-AE51-D809D5A5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FB587-07A2-4DC4-8F16-1524351C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C91F4-F91E-4479-9509-7A7A4471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F7270-B085-42D1-87A4-3B09BDB1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683C-8147-44F1-8B5E-51171BE6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1A7AC-3D4F-452C-A0C3-8D99C0D3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53BF7-C02C-433E-B589-58C39789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DEB2F-3631-4F58-AEAF-7DE2ADC4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46E1B-AA25-48CA-8491-DA97E136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322BC-5CB9-41DE-B638-9EAF9485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702E1-AE3D-4797-88DF-7AE2188A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FAA77-0FC2-4602-AFA7-08EA3A71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E97F3-9617-4981-9AD8-A2554F6F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5C8A4-E214-44F2-B484-FA037BC8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06AAB-5233-45AD-8812-3C179D93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5ED3-0999-44A7-9863-B23E5AB7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EBF92-4B23-43B0-BACE-6546EAD8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F5D4D-2740-49A9-A6F4-AFC648A7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6C05A-7C2C-40B6-B9C2-22D08516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399C5-4E35-43B5-94C9-FBE5B374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B1226-1CB4-408D-94E8-97E785A1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3337D-AAC0-4419-8955-75043967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328CB-886C-46D9-A0AA-585BF22A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BCA09-D9CA-4B1F-955B-23BF2F69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45336-D098-4B41-82F8-6796985F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F52C8-0439-4A25-B896-67F6C57E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B568-229A-4334-9F57-072B27E4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C266E-765C-477E-8FFC-46F89DF2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3245E-CF9F-4EF8-AADD-95C71F53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62277-B3AF-4C30-88CD-A17A8FAF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59F2A-6D4F-4748-81EC-E48D399A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CA345-8449-4FA6-ACFC-62253826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2FBD0-D90B-4F66-B447-9EE232E7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5B5A4-F97A-4125-AC16-BB87E59E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5BBD5-30E7-4E7E-816B-0B0DEED8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F0DE3-114A-473F-AF12-67E89396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2CD3B-FD20-446D-ADB7-C089DA5A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5498-6DCC-4D3F-88E0-43B493CA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8FE27-2E6F-4057-9FB8-F4E6D74B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E58B8-90B2-4145-BCFA-880ED347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90EC0-65E4-4C29-885B-A8BE1C41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541F5F-27DB-4CAF-985B-F37DFA57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244474-4579-4DDB-AAF6-5ED7C761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C02F4C-C955-4742-B10A-3147B4E3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50FDDF-5143-4D4A-8196-3C8B9744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C66773-BB5B-432F-9F37-6BDBB45A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494007-0470-41C7-9267-01055ED2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132E95-0562-4C43-88B5-E8066422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DE11-5BEE-4A1F-AC95-A85A1477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B2AD3F-DD49-436C-9494-EC384BD0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89A88D-3F9F-472B-ACD1-ED5713A2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BB5D15-7F39-47B2-BFF4-6B76DC55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96C80E-7A8C-4B1C-8727-7FEE7BC3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DAF951-A977-4E2D-8895-649F3B2D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43DC-DDAF-4974-AEC7-F9AA3A24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B925-1F23-4491-AE4B-58A83BF9CBD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4D5D-CB24-4B8C-93C5-79E7D383138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12A7-D328-4855-8FF1-811C536F91C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C1D9-3ABA-43FF-A222-60E5EA5FB41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C849-3AA7-4663-A1C6-E5E4F02F278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6EF3-F10E-4D5D-ADD4-9DE17AA07E8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2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FF68-1FF5-41A8-BCA0-CEF6D4D3941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2" descr=""/>
          <p:cNvPicPr/>
          <p:nvPr/>
        </p:nvPicPr>
        <p:blipFill>
          <a:blip r:embed="rId1"/>
          <a:stretch/>
        </p:blipFill>
        <p:spPr>
          <a:xfrm>
            <a:off x="609480" y="324000"/>
            <a:ext cx="8248680" cy="205416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523880" y="5409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onstructivist Approach to Edu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10" descr="small_bulb"/>
          <p:cNvPicPr/>
          <p:nvPr/>
        </p:nvPicPr>
        <p:blipFill>
          <a:blip r:embed="rId2"/>
          <a:stretch/>
        </p:blipFill>
        <p:spPr>
          <a:xfrm>
            <a:off x="3429000" y="2438280"/>
            <a:ext cx="2235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4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TEN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allow students to use their new knowledge and continue to explore its implic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apply knowledge to other situ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consider the effects of their knowled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apply to their own worl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relate to other concep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4" descr="MCj03980690000[1]"/>
          <p:cNvPicPr/>
          <p:nvPr/>
        </p:nvPicPr>
        <p:blipFill>
          <a:blip r:embed="rId1"/>
          <a:stretch/>
        </p:blipFill>
        <p:spPr>
          <a:xfrm>
            <a:off x="6934320" y="1905120"/>
            <a:ext cx="1806480" cy="1527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MCj02958790000[1]"/>
          <p:cNvPicPr/>
          <p:nvPr/>
        </p:nvPicPr>
        <p:blipFill>
          <a:blip r:embed="rId2"/>
          <a:stretch/>
        </p:blipFill>
        <p:spPr>
          <a:xfrm>
            <a:off x="6858000" y="4114800"/>
            <a:ext cx="187956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tend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are given a set of scenarios, including different disorders of the digestive system, digestion of organic compounds, etc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apply their knowledge of the digestive system to these scenarios to figure out what is going on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6095880" y="4952880"/>
            <a:ext cx="132408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5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VALUAT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both students and teachers determine how much learning and understanding has taken pla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f-assess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acher observ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ility to apply to other top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ance Assess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rtfoli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ubr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4" descr="MMj02866740000[1]"/>
          <p:cNvPicPr/>
          <p:nvPr/>
        </p:nvPicPr>
        <p:blipFill>
          <a:blip r:embed="rId1"/>
          <a:stretch/>
        </p:blipFill>
        <p:spPr>
          <a:xfrm>
            <a:off x="5943600" y="2895480"/>
            <a:ext cx="1441440" cy="19051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MMj02831940000[1]"/>
          <p:cNvPicPr/>
          <p:nvPr/>
        </p:nvPicPr>
        <p:blipFill>
          <a:blip r:embed="rId2"/>
          <a:stretch/>
        </p:blipFill>
        <p:spPr>
          <a:xfrm>
            <a:off x="7238880" y="4876920"/>
            <a:ext cx="15526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valuat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Discu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responses to scen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3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284796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nstructivism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2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Constructivism is a philosophy about learning that proposes learners need to build their own understanding of new ideas.”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Source: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http://iisme.5ecommunity.org/index.php?area_id=56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6" descr="MPj03829910000[1]"/>
          <p:cNvPicPr/>
          <p:nvPr/>
        </p:nvPicPr>
        <p:blipFill>
          <a:blip r:embed="rId1"/>
          <a:stretch/>
        </p:blipFill>
        <p:spPr>
          <a:xfrm>
            <a:off x="3657600" y="3962520"/>
            <a:ext cx="1795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5e’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ng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xpl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xpl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xt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valu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 5e model was originally proposed by the BSCS (Biological Science Curriculum Study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4" descr="content_cd"/>
          <p:cNvPicPr/>
          <p:nvPr/>
        </p:nvPicPr>
        <p:blipFill>
          <a:blip r:embed="rId1"/>
          <a:stretch/>
        </p:blipFill>
        <p:spPr>
          <a:xfrm>
            <a:off x="4648320" y="1752480"/>
            <a:ext cx="373356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1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NGAG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peak student interest and get them personally involved in the less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cess prior knowled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tes curios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ts students to ask the WHY ques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tivates students to lear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ts students atten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4" descr="MCj04042630000[1]"/>
          <p:cNvPicPr/>
          <p:nvPr/>
        </p:nvPicPr>
        <p:blipFill>
          <a:blip r:embed="rId1"/>
          <a:stretch/>
        </p:blipFill>
        <p:spPr>
          <a:xfrm>
            <a:off x="5748480" y="3014640"/>
            <a:ext cx="18381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ngag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 Without a Stomach Vid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2905200" cy="3095640"/>
          </a:xfrm>
          <a:prstGeom prst="rect">
            <a:avLst/>
          </a:prstGeom>
          <a:ln w="0">
            <a:noFill/>
          </a:ln>
        </p:spPr>
      </p:pic>
      <p:sp>
        <p:nvSpPr>
          <p:cNvPr id="315" name="TextBox 7"/>
          <p:cNvSpPr/>
          <p:nvPr/>
        </p:nvSpPr>
        <p:spPr>
          <a:xfrm>
            <a:off x="4038480" y="2362320"/>
            <a:ext cx="4038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 watch a 4 ½ minute video about Jonas, a man who attempted to commit suicide by swallowing bleach. In doing so, Jonas lost many of the organs of his digestive system, including his stomach. Jonas undergoes a radical procedure, in which his intestine is connected to his esophagu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 are then asked to generate questions they have about Jonas’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2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PLOR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get students involved in the topic; providing them with a chance to find the solution for themsel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work togeth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must make their own deci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generate questions and ideas while within the situation or proble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11" descr="MCPE03230_0000[1]"/>
          <p:cNvPicPr/>
          <p:nvPr/>
        </p:nvPicPr>
        <p:blipFill>
          <a:blip r:embed="rId1"/>
          <a:stretch/>
        </p:blipFill>
        <p:spPr>
          <a:xfrm>
            <a:off x="5943600" y="2819520"/>
            <a:ext cx="2840040" cy="1393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9" descr="MMj03957550000[1]"/>
          <p:cNvPicPr/>
          <p:nvPr/>
        </p:nvPicPr>
        <p:blipFill>
          <a:blip r:embed="rId2"/>
          <a:stretch/>
        </p:blipFill>
        <p:spPr>
          <a:xfrm>
            <a:off x="6248520" y="5181480"/>
            <a:ext cx="220968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plor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are partnered up and work through a series of questions about the digestive system with the assistance of their textbook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estions are based on Jonas’ situat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choose 2 questions from the prior brainstorming to answer in addition to the questions the teacher handed out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3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PLAI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students are given a chance to take what they have learned so far and figure out what it mea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are asked to explain their experien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ass discussion is hel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re questions are genera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w definitions are explor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4" descr="MCj03605160000[1]"/>
          <p:cNvPicPr/>
          <p:nvPr/>
        </p:nvPicPr>
        <p:blipFill>
          <a:blip r:embed="rId1"/>
          <a:stretch/>
        </p:blipFill>
        <p:spPr>
          <a:xfrm>
            <a:off x="6095880" y="1981080"/>
            <a:ext cx="2649600" cy="16322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MCj03907920000[1]"/>
          <p:cNvPicPr/>
          <p:nvPr/>
        </p:nvPicPr>
        <p:blipFill>
          <a:blip r:embed="rId2"/>
          <a:stretch/>
        </p:blipFill>
        <p:spPr>
          <a:xfrm>
            <a:off x="6324480" y="4419720"/>
            <a:ext cx="2286000" cy="16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plain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lass goes over their findings, with the teacher facilitating the discussion and correcting misconceptions a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share the answers to the questions that they cho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have a diagram of the digestive system that they can use to fill in important points as they come up in c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 has a supplementary power point to illustrate student find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6:50:14Z</dcterms:created>
  <dc:creator>elpalme</dc:creator>
  <dc:description/>
  <dc:language>en-US</dc:language>
  <cp:lastModifiedBy>elpalme</cp:lastModifiedBy>
  <dcterms:modified xsi:type="dcterms:W3CDTF">2012-02-13T19:02:03Z</dcterms:modified>
  <cp:revision>5</cp:revision>
  <dc:subject/>
  <dc:title>The 5e Instructional Model</dc:title>
</cp:coreProperties>
</file>