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png" ContentType="image/png"/>
  <Override PartName="/ppt/media/image16.png" ContentType="image/png"/>
  <Override PartName="/ppt/media/image15.gif" ContentType="image/gif"/>
  <Override PartName="/ppt/media/image1.png" ContentType="image/png"/>
  <Override PartName="/ppt/media/image3.jpeg" ContentType="image/jpeg"/>
  <Override PartName="/ppt/media/image14.gif" ContentType="image/gif"/>
  <Override PartName="/ppt/media/image2.jpeg" ContentType="image/jpeg"/>
  <Override PartName="/ppt/media/image8.gif" ContentType="image/gif"/>
  <Override PartName="/ppt/media/image5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F07-D166-470B-83FB-D4B0AEAD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ED41-16BD-408C-A0AA-064A844D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A4D2-0317-40F5-BA9C-DBC09469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5652-CAED-466B-A6B8-490E0BAA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5A8B-A151-4E6B-A313-E7D23B3D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301D-DBF4-4739-AB2E-AE74F2A4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311D-0D7E-4E63-8A07-24124BAB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25C5-07BB-4F2F-8DA2-E0974175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ADFE-2060-48CE-BD6A-D1F6BDE4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E7D9-B673-4781-BEDB-F8FA54DD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2051-D22D-49C9-B3AC-93016DF0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0DB5-618F-4853-B50F-888238A5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181D-AECB-41BA-9D7C-E51CAFA3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4638-BBFC-4618-9B89-CDE2062F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83D9-0335-44C3-99B7-9D87C91F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3EC9-1C66-4FD1-9C09-1B17E6EA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0E4C-8FBA-432A-83F7-F920365F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AA935-97D8-42AA-A7FD-5EE2F2D60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E1D36-A142-488F-B239-3959D7C9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338E2-3C6E-4922-897E-A1E6A473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BE592-390E-4098-8381-93FDBC11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FDB1D-3AF5-4D3A-9A2B-AF441FD1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1A4-6D00-4EA3-83A4-795ED875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9B94E-6419-41CD-BB62-820E53EA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BF77B-0D64-4D06-9D9D-0B6C38A5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9458E-93C9-4A4C-9674-BD33F665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B4072-166B-4BEF-89DF-772A113B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D1CF3-1C3D-4B92-B26B-95E69FB4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FE05A-8E95-47DB-8090-6CDF74FD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3CF07-0DEB-4D8D-997C-A10231E6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FEC67-22AE-4880-8E5E-7DCC7AB7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E847C-072F-47F9-ABC3-0F2B8C35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96E10-6326-4BAA-AA0B-E747F7CC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898B-FE42-4820-A36B-C9A63CCE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37BAF-29A5-45F2-8EA4-EAF7C471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BC5AB-4F47-4AEE-9CB1-830C25B8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E0C1C-3F92-4B44-A669-7C9DE818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8D0F0-9D37-4BE7-AEF2-DCC31AE8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24440-4A27-4FBB-ACD8-AED0D8D5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2C0FB-3413-4001-A6C2-1DAE6CAA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66B98-9651-423B-8105-65183EDB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2505D-9C72-425F-8BD9-3265581A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1F6F3-2F04-431E-ACDE-68AB8FEB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96140-21C1-4432-B040-CA05C683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5E80-5226-49BC-8D37-46A8C8AE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0E34F-43AB-4D7C-9E2C-8223FBAD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799D1-BCEE-4256-B9C6-4DC444A1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051EA-7A9A-4428-BC74-6DD3156A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314EA-F17C-44A1-AFA1-B52BFF02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89F8C-F170-4072-A385-2E106BBA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4194A-C399-4E71-B019-EC157BFE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25937-970E-4BED-9FBD-45431688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FC25B-4201-4511-BA5C-D08E3B27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B3D4A-ECB6-4672-BCC1-30644970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60452-383F-4142-9C2D-9815E20A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B542-0387-49E2-ADBA-CDC8D3D4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112F3-A2FA-44C4-8912-F0F7ACB0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C321E-8C7F-49FC-94F6-73B1FB0C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FE608-8D0E-4E3C-8587-24C49C91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4A5A2-C1F3-4ED5-9B29-8EC61D7F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2AA4B-DEC9-48CA-AD08-31BB70FD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6B482-B2BD-4DDD-A0F9-31A8B034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C19CC-80CC-43A4-8EFA-23382F0F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F5735-0D25-4077-B7FA-D17AE49E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25F2B-C2AB-4E4D-A0F4-523CD47A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91AA1-B24F-4E76-A065-94BF376B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A8DF-6F1F-4D39-B472-F04D320B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03B7B-FFF2-4ABA-862C-253ED54D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7F859-CAFF-49AB-8A23-3A78A871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69CD0-62CF-455F-9808-16ED8197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C329E6-FE86-4C68-90EF-55CCC444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68C636-5463-4B08-96F0-F2F03CD8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F69245-154C-4BB3-AF22-638A11DE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08DA19-EB28-4D2E-B8BC-DB8055AA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89E64F-0FB3-41FB-B90F-CCE0DB61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865DE7-7AB8-4E3D-AEBD-E55207F2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7C95F3-6B25-4E07-ACA0-19D51158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E795-23EE-49D7-9465-BD8E8A64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704122-C857-4E16-88B4-DC25FA88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0FED19-1B2C-4F14-A3FD-E70251CC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8F64E0-C1C6-4656-9BED-5216E1BD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AFEFFA-7118-4D2B-9DBE-088BD7DB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D1EB7C-180D-47E8-B3CB-4AE4E1BC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E43D-BDF7-473E-A1FD-05F07896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140A-C262-4D50-BAD8-E08CA00DC07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6265-0A08-46D2-9E0A-FC7BA5B3EAD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44D1-0C8A-46E8-BCE5-F9C707758A6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FC0B-498A-4D97-A144-CB47E193AC2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2166-78D7-4400-BF0F-09F302DCA88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D844-B3C6-4AE4-A0DE-4483A149F09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2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C506-5A38-4B87-8888-7C96AFF682B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2" descr=""/>
          <p:cNvPicPr/>
          <p:nvPr/>
        </p:nvPicPr>
        <p:blipFill>
          <a:blip r:embed="rId1"/>
          <a:stretch/>
        </p:blipFill>
        <p:spPr>
          <a:xfrm>
            <a:off x="609480" y="324000"/>
            <a:ext cx="8248680" cy="205416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523880" y="5409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nstructivist Approach to Edu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10" descr="small_bulb"/>
          <p:cNvPicPr/>
          <p:nvPr/>
        </p:nvPicPr>
        <p:blipFill>
          <a:blip r:embed="rId2"/>
          <a:stretch/>
        </p:blipFill>
        <p:spPr>
          <a:xfrm>
            <a:off x="3429000" y="2438280"/>
            <a:ext cx="2235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4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TEN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allow students to use their new knowledge and continue to explore its implic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apply knowledge to other situ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consider the effects of their knowled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apply to their own worl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relate to other concep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4" descr="MCj03980690000[1]"/>
          <p:cNvPicPr/>
          <p:nvPr/>
        </p:nvPicPr>
        <p:blipFill>
          <a:blip r:embed="rId1"/>
          <a:stretch/>
        </p:blipFill>
        <p:spPr>
          <a:xfrm>
            <a:off x="6934320" y="1905120"/>
            <a:ext cx="1806480" cy="1527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MCj02958790000[1]"/>
          <p:cNvPicPr/>
          <p:nvPr/>
        </p:nvPicPr>
        <p:blipFill>
          <a:blip r:embed="rId2"/>
          <a:stretch/>
        </p:blipFill>
        <p:spPr>
          <a:xfrm>
            <a:off x="6858000" y="4114800"/>
            <a:ext cx="187956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tend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are given a set of scenarios, including different disorders of the digestive system, digestion of organic compounds, etc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apply their knowledge of the digestive system to these scenarios to figure out what is going o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6095880" y="4952880"/>
            <a:ext cx="132408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5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VALUAT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both students and teachers determine how much learning and understanding has taken pla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f-assess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acher observ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ility to apply to other top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ance Assess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rtfoli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ubr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4" descr="MMj02866740000[1]"/>
          <p:cNvPicPr/>
          <p:nvPr/>
        </p:nvPicPr>
        <p:blipFill>
          <a:blip r:embed="rId1"/>
          <a:stretch/>
        </p:blipFill>
        <p:spPr>
          <a:xfrm>
            <a:off x="5943600" y="2895480"/>
            <a:ext cx="1441440" cy="19051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MMj02831940000[1]"/>
          <p:cNvPicPr/>
          <p:nvPr/>
        </p:nvPicPr>
        <p:blipFill>
          <a:blip r:embed="rId2"/>
          <a:stretch/>
        </p:blipFill>
        <p:spPr>
          <a:xfrm>
            <a:off x="7238880" y="4876920"/>
            <a:ext cx="15526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valuat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Discu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responses to scen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3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284796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nstructivism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2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Constructivism is a philosophy about learning that proposes learners need to build their own understanding of new ideas.”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Source: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http://iisme.5ecommunity.org/index.php?area_id=56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6" descr="MPj03829910000[1]"/>
          <p:cNvPicPr/>
          <p:nvPr/>
        </p:nvPicPr>
        <p:blipFill>
          <a:blip r:embed="rId1"/>
          <a:stretch/>
        </p:blipFill>
        <p:spPr>
          <a:xfrm>
            <a:off x="3657600" y="3962520"/>
            <a:ext cx="1795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5e’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ng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xpl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xpl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xt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valu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 5e model was originally proposed by the BSCS (Biological Science Curriculum Study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4" descr="content_cd"/>
          <p:cNvPicPr/>
          <p:nvPr/>
        </p:nvPicPr>
        <p:blipFill>
          <a:blip r:embed="rId1"/>
          <a:stretch/>
        </p:blipFill>
        <p:spPr>
          <a:xfrm>
            <a:off x="4648320" y="1752480"/>
            <a:ext cx="373356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1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NGAG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peak student interest and get them personally involved in the less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cess prior knowled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tes curios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ts students to ask the WHY ques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tivates students to lear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ts students atten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4" descr="MCj04042630000[1]"/>
          <p:cNvPicPr/>
          <p:nvPr/>
        </p:nvPicPr>
        <p:blipFill>
          <a:blip r:embed="rId1"/>
          <a:stretch/>
        </p:blipFill>
        <p:spPr>
          <a:xfrm>
            <a:off x="5748480" y="3014640"/>
            <a:ext cx="18381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ngag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 Without a Stomach Vid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2905200" cy="3095640"/>
          </a:xfrm>
          <a:prstGeom prst="rect">
            <a:avLst/>
          </a:prstGeom>
          <a:ln w="0">
            <a:noFill/>
          </a:ln>
        </p:spPr>
      </p:pic>
      <p:sp>
        <p:nvSpPr>
          <p:cNvPr id="315" name="TextBox 7"/>
          <p:cNvSpPr/>
          <p:nvPr/>
        </p:nvSpPr>
        <p:spPr>
          <a:xfrm>
            <a:off x="4038480" y="2362320"/>
            <a:ext cx="4038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 watch a 4 ½ minute video about Jonas, a man who attempted to commit suicide by swallowing bleach. In doing so, Jonas lost many of the organs of his digestive system, including his stomach. Jonas undergoes a radical procedure, in which his intestine is connected to his esophagu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 are then asked to generate questions they have about Jonas’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2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OR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get students involved in the topic; providing them with a chance to find the solution for themsel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work togeth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must make their own deci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generate questions and ideas while within the situation or proble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11" descr="MCPE03230_0000[1]"/>
          <p:cNvPicPr/>
          <p:nvPr/>
        </p:nvPicPr>
        <p:blipFill>
          <a:blip r:embed="rId1"/>
          <a:stretch/>
        </p:blipFill>
        <p:spPr>
          <a:xfrm>
            <a:off x="5943600" y="2819520"/>
            <a:ext cx="2840040" cy="1393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9" descr="MMj03957550000[1]"/>
          <p:cNvPicPr/>
          <p:nvPr/>
        </p:nvPicPr>
        <p:blipFill>
          <a:blip r:embed="rId2"/>
          <a:stretch/>
        </p:blipFill>
        <p:spPr>
          <a:xfrm>
            <a:off x="6248520" y="5181480"/>
            <a:ext cx="220968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or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are partnered up and work through a series of questions about the digestive system with the assistance of their textbook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estions are based on Jonas’ situat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choose 2 questions from the prior brainstorming to answer in addition to the questions the teacher handed out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3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AI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students are given a chance to take what they have learned so far and figure out what it mea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are asked to explain their experien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ass discussion is hel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re questions are genera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w definitions are explor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4" descr="MCj03605160000[1]"/>
          <p:cNvPicPr/>
          <p:nvPr/>
        </p:nvPicPr>
        <p:blipFill>
          <a:blip r:embed="rId1"/>
          <a:stretch/>
        </p:blipFill>
        <p:spPr>
          <a:xfrm>
            <a:off x="6095880" y="1981080"/>
            <a:ext cx="2649600" cy="16322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MCj03907920000[1]"/>
          <p:cNvPicPr/>
          <p:nvPr/>
        </p:nvPicPr>
        <p:blipFill>
          <a:blip r:embed="rId2"/>
          <a:stretch/>
        </p:blipFill>
        <p:spPr>
          <a:xfrm>
            <a:off x="6324480" y="4419720"/>
            <a:ext cx="2286000" cy="16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ain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lass goes over their findings, with the teacher facilitating the discussion and correcting misconceptions a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share the answers to the questions that they cho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have a diagram of the digestive system that they can use to fill in important points as they come up in c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 has a supplementary power point to illustrate student find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6:50:14Z</dcterms:created>
  <dc:creator>elpalme</dc:creator>
  <dc:description/>
  <dc:language>en-US</dc:language>
  <cp:lastModifiedBy>elpalme</cp:lastModifiedBy>
  <dcterms:modified xsi:type="dcterms:W3CDTF">2012-02-13T19:02:03Z</dcterms:modified>
  <cp:revision>5</cp:revision>
  <dc:subject/>
  <dc:title>The 5e Instructional Model</dc:title>
</cp:coreProperties>
</file>