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3.jpeg" ContentType="image/jpeg"/>
  <Override PartName="/ppt/media/image14.gif" ContentType="image/gif"/>
  <Override PartName="/ppt/media/image2.jpeg" ContentType="image/jpeg"/>
  <Override PartName="/ppt/media/image8.gif" ContentType="image/gif"/>
  <Override PartName="/ppt/media/image5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CA6-1EE5-442C-AF75-3A8BEF24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CF5-FC3F-45EC-B26D-53389638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7C5-6418-46BB-AA13-74C1B66B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C880-9DF1-4E7B-8790-9A1D4B46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654A-F436-4648-B684-EE76A059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E0A0-5CD5-48D4-BD9F-C9496DE9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3C98-481A-4723-A3DD-31B67F2C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246F-7799-4111-8AA5-375DA7BF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BAEB-0AE5-4EA0-8BA1-F667A345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6DC8-50A5-4247-947C-0B8B5121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308D-9699-436F-A421-F8AEAA59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9A1-8504-445E-8F2B-3AE64625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F449-3C71-4819-A582-57B00AC9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82B9-AB43-40F6-9858-2C8B0DD6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7921-B2BF-4A78-AA57-12885512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5B7E-137D-4564-B7E6-CF89C161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0327-4FFA-4044-B8B8-C374DAA2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15EF6-72BA-41E3-80F0-2A07F7E8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201B5-DDCA-41E3-A422-3F4703BC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32D5F-4DC6-4D8F-A92C-D3393D56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05D78-DFBD-4A6E-B88E-F14EF7C3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A43D-BF2D-477C-AD2F-3E0E907E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485-A182-445C-AECF-F11A0863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37905-1BE3-493E-8926-4CA269B1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85021-E54C-40D6-861C-9D1ED2D7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CFEE9-88D9-430C-8715-607DD610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8F1B1-308D-48F5-ACE8-E24E8D3C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DEADA-6EE6-4464-9637-0C18177D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E551F-889E-4B51-A8F0-C471F642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A5361-D681-4075-9E86-657AEEBE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76BA5-6FBF-4430-909C-E069EA56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EC274-8B4C-4488-BC6C-0C729693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8214C-A910-4892-AA08-9E3B9D8E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3457-FC62-40CD-9100-4F42BD25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2DF08-DFEC-444B-A5B1-F01E3AC2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120E2-0055-40B3-965B-07719BC7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AE234-90B0-497A-8DA7-B650C04F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8A33F-0BC7-4A04-B466-7BBA99B2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563BF-CC04-41D5-A076-92CAD59F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97A28-6099-43CC-8811-176313F9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77AC4-F410-4125-A604-F62A945D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4A750-50AF-4C98-89DD-286E271C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FF404-DFEA-4C0C-B345-5EF01E54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FA152-6704-4F05-AB26-F3882D6C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53F6-365C-42B0-A0FC-4507D8CE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9AA90-A32E-4430-8F6F-97D82F45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07A2A-B75D-4D1D-A1EE-0CBC3439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DD64D-41AC-47D8-9A0F-9FF53043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4F1FE-2BF3-4E96-9F0B-268EDF5C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DD171-DAA0-490A-814B-EC210954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923CF-C980-4187-B309-D217640E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35FA0-8567-4214-B976-9EC46CCA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B1261-616F-401F-B404-CB155E6D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FEC22-89EB-4509-86F9-9CC9AA4F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E9BF1-B9C2-4662-8B78-4BF57129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F3A-AF5B-40CE-913D-812822F4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B2AF3-457C-4A60-82DC-6B241304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AB47B-9C09-4552-8C88-7CE46E53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A9BF3-C7D5-4129-87EF-CFBE3F1A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54023-7EC7-4ABB-B9D5-F2E5F072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84AF2-B533-46EF-941A-6D143A85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6A292-B4A2-4B4A-AC01-D060E5FB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E28B0-76F1-4415-A504-5A9980B5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3DF00-75B1-4B6C-9381-6188CCE3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982C2-1910-4E78-9C46-CE1C025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4E697-6743-43F4-929F-F47900DD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004-61E4-4BC0-ADCD-8C69AD78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B776F-7803-4247-9711-AA2990BA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784DF-7CDA-4B0C-BAE8-C36B3924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754D4-B0FA-454E-B424-49638ECF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DE9ACE-BBCF-4505-A775-98CA7A9C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33722B-D6C1-4269-8E4B-FFFBC75D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0B681-7867-4480-BCEE-2420B150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374AAC-1556-43DC-A0CF-F2B75190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D8836-85D8-4813-AEDF-241EBE27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B41968-2571-45F8-9A12-48443AE1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50A92-5990-4312-BCF2-3355A2A2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FACF-7825-4857-9F73-2D2EF313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25B241-CEBD-43DD-A6AE-EC9E758C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1CC270-03B5-402B-AFCD-99EC024D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88042F-10FB-4835-8839-CA7DB44B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0725A3-4E6F-4A98-A863-FD7564FF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D429E-B507-4DE0-8C32-4C3D9BD6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20A-1D4F-4B65-93E3-D0F8D417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EDA2-709E-44CB-B019-CBA855F05C9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5EB8-7A59-425E-AA6A-EDAE8D7592C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1F9B-1D5C-43E9-87E2-614072F23CF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50A5-7FDD-43FC-A79B-F616410D108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F80B-CFA1-4D1D-86D3-21161C8C6B4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4A1F-9292-4653-9A1E-310151CA765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2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A6BC-CA97-44EB-9AE4-79E240D25BE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609480" y="324000"/>
            <a:ext cx="8248680" cy="20541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52388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nstructivist Approach to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10" descr="small_bulb"/>
          <p:cNvPicPr/>
          <p:nvPr/>
        </p:nvPicPr>
        <p:blipFill>
          <a:blip r:embed="rId2"/>
          <a:stretch/>
        </p:blipFill>
        <p:spPr>
          <a:xfrm>
            <a:off x="3429000" y="2438280"/>
            <a:ext cx="2235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4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TEN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allow students to use their new knowledge and continue to explore its impl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pply knowledge to other situ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consider the effects of their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pply to their own wor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relate to other concep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MCj03980690000[1]"/>
          <p:cNvPicPr/>
          <p:nvPr/>
        </p:nvPicPr>
        <p:blipFill>
          <a:blip r:embed="rId1"/>
          <a:stretch/>
        </p:blipFill>
        <p:spPr>
          <a:xfrm>
            <a:off x="6934320" y="1905120"/>
            <a:ext cx="1806480" cy="1527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MCj02958790000[1]"/>
          <p:cNvPicPr/>
          <p:nvPr/>
        </p:nvPicPr>
        <p:blipFill>
          <a:blip r:embed="rId2"/>
          <a:stretch/>
        </p:blipFill>
        <p:spPr>
          <a:xfrm>
            <a:off x="6858000" y="4114800"/>
            <a:ext cx="18795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tend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re given a set of scenarios, including different disorders of the digestive system, digestion of organic compounds, etc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pply their knowledge of the digestive system to these scenarios to figure out what is going 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6095880" y="4952880"/>
            <a:ext cx="13240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5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VALU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oth students and teachers determine how much learning and understanding has taken pla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f-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acher observ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ility to apply to other top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ance Assess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rtfoli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ubr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4" descr="MMj02866740000[1]"/>
          <p:cNvPicPr/>
          <p:nvPr/>
        </p:nvPicPr>
        <p:blipFill>
          <a:blip r:embed="rId1"/>
          <a:stretch/>
        </p:blipFill>
        <p:spPr>
          <a:xfrm>
            <a:off x="5943600" y="2895480"/>
            <a:ext cx="1441440" cy="19051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MMj02831940000[1]"/>
          <p:cNvPicPr/>
          <p:nvPr/>
        </p:nvPicPr>
        <p:blipFill>
          <a:blip r:embed="rId2"/>
          <a:stretch/>
        </p:blipFill>
        <p:spPr>
          <a:xfrm>
            <a:off x="7238880" y="4876920"/>
            <a:ext cx="15526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valuat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responses to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28479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structivism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2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Constructivism is a philosophy about learning that proposes learners need to build their own understanding of new ideas.”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Source: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http://iisme.5ecommunity.org/index.php?area_id=56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6" descr="MPj03829910000[1]"/>
          <p:cNvPicPr/>
          <p:nvPr/>
        </p:nvPicPr>
        <p:blipFill>
          <a:blip r:embed="rId1"/>
          <a:stretch/>
        </p:blipFill>
        <p:spPr>
          <a:xfrm>
            <a:off x="3657600" y="3962520"/>
            <a:ext cx="179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5e’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ng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pl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pl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xte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valu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5e model was originally proposed by the BSCS (Biological Science Curriculum Study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4" descr="content_cd"/>
          <p:cNvPicPr/>
          <p:nvPr/>
        </p:nvPicPr>
        <p:blipFill>
          <a:blip r:embed="rId1"/>
          <a:stretch/>
        </p:blipFill>
        <p:spPr>
          <a:xfrm>
            <a:off x="4648320" y="1752480"/>
            <a:ext cx="37335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1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NGAG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peak student interest and get them personally involved in the less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cess prior knowle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es curios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ts students to ask the WHY ques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tivates students to lear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ts students atten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MCj04042630000[1]"/>
          <p:cNvPicPr/>
          <p:nvPr/>
        </p:nvPicPr>
        <p:blipFill>
          <a:blip r:embed="rId1"/>
          <a:stretch/>
        </p:blipFill>
        <p:spPr>
          <a:xfrm>
            <a:off x="5748480" y="3014640"/>
            <a:ext cx="18381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ngag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 Without a Stomach Vid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905200" cy="309564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4038480" y="2362320"/>
            <a:ext cx="4038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watch a 4 ½ minute video about Jonas, a man who attempted to commit suicide by swallowing bleach. In doing so, Jonas lost many of the organs of his digestive system, including his stomach. Jonas undergoes a radical procedure, in which his intestine is connected to his esophag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are then asked to generate questions they have about Jonas’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2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O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get students involved in the topic; providing them with a chance to find the solution for themsel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work togeth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must make their own deci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generate questions and ideas while within the situation or proble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11" descr="MCPE03230_0000[1]"/>
          <p:cNvPicPr/>
          <p:nvPr/>
        </p:nvPicPr>
        <p:blipFill>
          <a:blip r:embed="rId1"/>
          <a:stretch/>
        </p:blipFill>
        <p:spPr>
          <a:xfrm>
            <a:off x="5943600" y="2819520"/>
            <a:ext cx="2840040" cy="1393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9" descr="MMj03957550000[1]"/>
          <p:cNvPicPr/>
          <p:nvPr/>
        </p:nvPicPr>
        <p:blipFill>
          <a:blip r:embed="rId2"/>
          <a:stretch/>
        </p:blipFill>
        <p:spPr>
          <a:xfrm>
            <a:off x="6248520" y="5181480"/>
            <a:ext cx="220968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ore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are partnered up and work through a series of questions about the digestive system with the assistance of their textbook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s are based on Jonas’ situa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ents choose 2 questions from the prior brainstorming to answer in addition to the questions the teacher handed ou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hase #3: </a:t>
            </a: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AI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tudents are given a chance to take what they have learned so far and figure out what it mea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ents are asked to explain their experie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ass discussion is he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questions are gener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definitions are explor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4" descr="MCj03605160000[1]"/>
          <p:cNvPicPr/>
          <p:nvPr/>
        </p:nvPicPr>
        <p:blipFill>
          <a:blip r:embed="rId1"/>
          <a:stretch/>
        </p:blipFill>
        <p:spPr>
          <a:xfrm>
            <a:off x="6095880" y="1981080"/>
            <a:ext cx="2649600" cy="1632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MCj03907920000[1]"/>
          <p:cNvPicPr/>
          <p:nvPr/>
        </p:nvPicPr>
        <p:blipFill>
          <a:blip r:embed="rId2"/>
          <a:stretch/>
        </p:blipFill>
        <p:spPr>
          <a:xfrm>
            <a:off x="6324480" y="4419720"/>
            <a:ext cx="228600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Explain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lass goes over their findings, with the teacher facilitating the discussion and correcting misconceptions a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share the answers to the questions that they ch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have a diagram of the digestive system that they can use to fill in important points as they come up in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 has a supplementary power point to illustrate student find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6:50:14Z</dcterms:created>
  <dc:creator>elpalme</dc:creator>
  <dc:description/>
  <dc:language>en-US</dc:language>
  <cp:lastModifiedBy>elpalme</cp:lastModifiedBy>
  <dcterms:modified xsi:type="dcterms:W3CDTF">2012-02-13T19:02:03Z</dcterms:modified>
  <cp:revision>5</cp:revision>
  <dc:subject/>
  <dc:title>The 5e Instructional Model</dc:title>
</cp:coreProperties>
</file>