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E80-7542-48C9-BC04-B9D74AC4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1DC-F867-49CF-81DA-DCD6F926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630-D349-4F84-9323-7F7B52E4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A05-12F6-4108-AEEF-131D2C7D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3BAE-CA32-4FB5-BFEC-13601E40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1D2D-7DF4-494E-AE55-6FCAC41B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110F-A0F0-4D2C-A9A0-21164DB9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EC3E-9510-49BE-B91F-F0DDF03E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0D7C-4066-4173-8982-A3FF355F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2285-C7D6-4060-8871-3251C02B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0CA8-3A28-4AA5-9479-C4E0DB2F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E8D-EDCA-4775-9EB7-EF059EAF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9905-BC76-402A-8293-C05A4EA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B06C-14C6-491B-BD2F-E78258FD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52D5-4FFC-49E7-B2B9-3F185F9A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0A66-CACB-430A-87D7-D13532E0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145F-1E24-438A-866B-DB320757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8DA-805A-45FA-8DE2-FD890C0F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859-B14D-4CB6-9978-D9FDADB7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7AE-0DF9-465F-A641-9CB5BECF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5CE-43F7-4FAD-AFE4-F63644A1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0FF-8B64-4057-AF62-AA29B508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EB6-1E1B-402F-BF38-58AAC72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07F-6A4C-48C8-916B-7FE2DE3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885-A78F-4AFC-BAA3-B902DD826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B1AF-8540-454F-852C-EE142B1E5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rzMhU_4m-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cience Literacy in the High School Classroo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amples of Teaching Scientific Literac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ucture of DNA: Cooperation and com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use the “How Science Works” handout to analyze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zy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work through inferences v. concl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deas for Scientific Literac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science articles or classic scientific lit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ing and interpreting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f data/grap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ation of science in the n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cience Literac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literacy is the knowledge and understanding of scientific concepts and processes required f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civic and cultural aff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cludes specific types of abil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entifically literate person c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, find, or determine answers to questions derived from curiosity about everyday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, explain, and predict natural phenom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with understanding articles about science in the popular press and engage in social conversation about the validity of the conclu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scientific issues underlying national and local decisions and express positions that are scientifically and technologically in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the quality of scientific information on the basis of its source and the methods used to generate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and evaluate arguments based on evidence and apply conclusions from such arguments appropriat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National Science Education Standar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ching Science Literac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Literacy 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ing and exploration of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, organization, presentation, and analysi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and evaluating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ing and Conclu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lines of reasoning in this 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zrzMhU_4m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it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itches are made of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od floats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s float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ood and ducks must weigh the sa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person weighs the same as a duck, she is made of wood and is therefore a wi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1:05:35Z</dcterms:created>
  <dc:creator>College of Education</dc:creator>
  <dc:description/>
  <dc:language>en-US</dc:language>
  <cp:lastModifiedBy>elpalme</cp:lastModifiedBy>
  <dcterms:modified xsi:type="dcterms:W3CDTF">2011-02-21T20:37:47Z</dcterms:modified>
  <cp:revision>8</cp:revision>
  <dc:subject/>
  <dc:title>Science Literacy in the High School Classroom</dc:title>
</cp:coreProperties>
</file>