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4726-4361-494A-B747-32D189FCA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5BD1-F72F-40B2-BFDB-B5E7B186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AD57-C1AD-4B49-89A6-569F1253F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3DA1-3118-4D78-89B3-E1D615815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19E56-5777-4F4B-B868-D8FA6FC5B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18679-CD28-4485-BEB9-986E5EA9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6403-584C-44C0-A97A-1C7543B9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ECE5-BF33-416C-A211-C24EF7B2B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B1B4-49FB-410F-9066-81BBBAE7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C334-29DF-426F-97B6-01D3419A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496D-D1B1-4C30-A387-E846B181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6160-EBCD-4802-B0BC-34096038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F927-5E84-46BE-97B1-6DBA5E34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AE7F-DE09-49F1-BBB8-F4728DA3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2F02-B7CD-4150-AA0D-3D5976C0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4023-E575-410B-8DFE-FEA228C30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020B-E9D9-40EA-9C45-0C566116F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A694-D40F-4C98-B636-968EE95C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83B2-24F8-4927-AC82-33C6D00F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9E7B-8067-470C-BF2D-669C58E8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7CF0-5D4A-4FEB-A7C0-F84618AA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F95C-EB07-4455-A888-BC9E0079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0E17-D49D-47A9-980D-649440A6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E6B4-7F29-47B0-8209-5F6A86D3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DD68-6180-4699-9532-6E45DAEB3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6BBB-91FC-4883-9B20-F45815930C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rzMhU_4m-g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Science Literacy in the High School Classroom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Examples of Teaching Scientific Literacy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tructure of DNA: Cooperation and competi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students use the “How Science Works” handout to analyze the artic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azy Concl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students work through inferences v. conclu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deas for Scientific Literacy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ing science articles or classic scientific litera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thering and interpreting dat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 resear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pretation of data/grap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oration of science in the new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at is Science Literacy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ientific literacy is the knowledge and understanding of scientific concepts and processes required for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onal decision ma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icipation in civic and cultural affai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conomic produc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so includes specific types of abiliti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3059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cientifically literate person can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k, find, or determine answers to questions derived from curiosity about everyday experi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cribe, explain, and predict natural phenomen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d with understanding articles about science in the popular press and engage in social conversation about the validity of the conclusio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dentify scientific issues underlying national and local decisions and express positions that are scientifically and technologically inform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e the quality of scientific information on the basis of its source and the methods used to generate 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e and evaluate arguments based on evidence and apply conclusions from such arguments appropriatel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National Science Education Standard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eaching Science Literac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ure of Sci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cesses of Sci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ientific Concep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cience Literacy Skill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king and exploration of ques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llection, organization, presentation, and analysis 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wing and evaluating concl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ductive reaso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blem solv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Reasoning and Conclusion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the lines of reasoning in this exampl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http://www.youtube.com/watch?v=zrzMhU_4m-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</a:t>
            </a:r>
            <a:r>
              <a:rPr b="1" lang="en-US" sz="4400" spc="-1" strike="noStrike" baseline="30000">
                <a:solidFill>
                  <a:srgbClr val="feec94"/>
                </a:solidFill>
                <a:latin typeface="Times New Roman"/>
              </a:rPr>
              <a:t>st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Line of Reasoning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e burn witch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e burn woo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refore, witches are made of woo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en-US" sz="4400" spc="-1" strike="noStrike" baseline="30000">
                <a:solidFill>
                  <a:srgbClr val="feec94"/>
                </a:solidFill>
                <a:latin typeface="Times New Roman"/>
              </a:rPr>
              <a:t>nd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Line of Reason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ood floats on wat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ucks float on wat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refore, wood and ducks must weigh the sa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onclus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a person weighs the same as a duck, she is made of wood and is therefore a witch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1:05:35Z</dcterms:created>
  <dc:creator>College of Education</dc:creator>
  <dc:description/>
  <dc:language>en-US</dc:language>
  <cp:lastModifiedBy>elpalme</cp:lastModifiedBy>
  <dcterms:modified xsi:type="dcterms:W3CDTF">2011-02-21T20:37:47Z</dcterms:modified>
  <cp:revision>8</cp:revision>
  <dc:subject/>
  <dc:title>Science Literacy in the High School Classroom</dc:title>
</cp:coreProperties>
</file>