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93B-420C-447C-81A3-B8FE7E81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038-3A03-4E6A-BCDA-BA7E2CD8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E97-3772-4EFD-B5CF-737DDDC6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3A7-8B8D-47EF-9B51-030CD9AB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45BC-9D36-45A5-9FCD-33BA8B51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2CA4-ACC6-4617-BFC3-0E860A83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709B-8A98-40D3-9B67-6E07560B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9425-C66F-479B-B9A6-A6F1C95B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A1D7-A22E-4AC6-8CC5-42019A17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8D2C-9A26-46CC-B98E-8C7FE69B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3502-3BC9-4409-B68B-F2A26C3F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36F-D8C9-494C-B7B2-6B4CBD20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323A-0CFF-4319-8ECA-A4F572DA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4919-03F1-4401-8D47-58DD0E54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7983-FD49-47F6-B29E-E2CF7CF8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0C32-1C70-40C6-B68D-8DFAAF14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6A12-897C-4E7E-A8FE-6A76787E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B20-E428-4A20-AEB5-A81B4AC3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1BC-F31B-43BD-978A-E6307F0A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362-D4C2-4A9E-8AE0-148A85FC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CB18-010D-4941-B2CF-0F414D72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649-C175-4D10-B2F6-04DEBC66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73D0-85F2-429F-9CAB-629F3533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645-0D9A-4859-9D66-8419CF9D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843B-BFC2-4388-8C29-EA3146B68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028C-8356-4653-B94D-2DB736D56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rzMhU_4m-g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cience Literacy in the High School Classroom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Examples of Teaching Scientific Literac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ructure of DNA: Cooperation and compet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students use the “How Science Works” handout to analyze the arti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zy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students work through inferences v. conclu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deas for Scientific Literacy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ng science articles or classic scientific lit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ing and interpreting d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resear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pretation of data/grap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ation of science in the new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is Science Literacy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fic literacy is the knowledge and understanding of scientific concepts and processes required for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decision ma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tion in civic and cultural aff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produ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includes specific types of abil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ientifically literate person ca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k, find, or determine answers to questions derived from curiosity about everyday exper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, explain, and predict natural phenome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 with understanding articles about science in the popular press and engage in social conversation about the validity of the conclus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scientific issues underlying national and local decisions and express positions that are scientifically and technologically in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e the quality of scientific information on the basis of its source and the methods used to generate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e and evaluate arguments based on evidence and apply conclusions from such arguments appropriate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National Science Education Standard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aching Science Literac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of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es of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fic 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cience Literacy Skil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ing and exploration of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ion, organization, presentation, and analysis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ing and evaluating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ductive reas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 sol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asoning and Conclus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lines of reasoning in this examp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www.youtube.com/watch?v=zrzMhU_4m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st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Line of Reasoning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burn witch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burn wo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fore, witches are made of wo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Line of Reason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od floats on wat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ucks float on wat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fore, wood and ducks must weigh the sa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person weighs the same as a duck, she is made of wood and is therefore a wi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1:05:35Z</dcterms:created>
  <dc:creator>College of Education</dc:creator>
  <dc:description/>
  <dc:language>en-US</dc:language>
  <cp:lastModifiedBy>elpalme</cp:lastModifiedBy>
  <dcterms:modified xsi:type="dcterms:W3CDTF">2011-02-21T20:37:47Z</dcterms:modified>
  <cp:revision>8</cp:revision>
  <dc:subject/>
  <dc:title>Science Literacy in the High School Classroom</dc:title>
</cp:coreProperties>
</file>