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B79A-41BB-4F54-AA1F-71D05BE4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165C-41FC-4694-B1D9-4CF35F64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480B-02C5-48C8-BC11-4FE3D2A3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C5C-D585-4906-A89C-076BA4ED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5869-E7BA-4E0C-9FCF-BA83DDF9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42CF-356F-4478-A316-7E910146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5031-6E22-4C8C-97AD-5533FFA6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8295-59B9-444F-A222-30B9C757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B2CE-F85A-423A-9118-6471C672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5E0B-52C5-47EA-B6C4-03344594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13B2-1A89-424C-8D0D-1618DF10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21DF-7671-48D4-91A7-5A118C0D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917E-F2ED-4119-B2CE-7634090D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85A9-1C4F-4353-BDD1-2E452A19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3B35-5566-4F56-A331-B06DEF30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3F00-B39E-4921-B110-C1074308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A965-EB7B-41E2-A3AC-C6A37C94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F2C-1026-4A0D-946C-0CF71114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43D5-7C15-41B7-8706-E34297F0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EAF0-2FCE-4F48-938D-D08441D7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EBC4-1BC3-45D6-AF54-D83FD182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CB3F-0080-4563-928A-494F0D61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D65-9317-492E-94B9-71D62629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05FD-6018-4EA5-9952-77CE36E5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5561-C421-4E06-B56F-7B4F44F50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905F-6A1A-4806-9050-37D2A92595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nfidels.org/library/modern/richard_carrier/SciLit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Nature of Scienc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ur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infidels.org/library/modern/richard_carrier/SciLit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cience is a Tentative Enterpri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duct of the judgment of indiv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individuals to defend their conclusions by appeals to reason and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tific truths are those that are agreed upon by all fully informed ob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nly thing certain about science is that it will always 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2 &amp;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Science is an Empirical System of Understanding the Physical World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irical in that knowledge is based on repeated practice and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n underlying supposition that data is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 5, 6, 12, &amp; 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in min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s unobservables (inductive reaso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influence by social or cultural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fundamentally an interpretive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cience is not a Single Metho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fic methods refers to the whole gamut of means and methods in the world of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act that science tests not just concepts but also methods and means also strengthens this discip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xperiments are a Goal-Oriented Form of Scientific Observatio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 is based on observations (as opposed to “science is based on experiment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s are goal-oriented procedures (as opposed to scientists having no idea how they will turn ou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ingle experiment can prove a theory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1, 7, 9 &amp;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cientific Theories are Explanations of Scientific Fact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ts are obser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ies explain the “why” or “how” behind those fa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sts use theories to guide further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ies change due to new data or connections between already know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4, 8, 14, 18, &amp; 2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cientific Laws are Descriptions of Nature’s Behavior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cientific law describes the relationships between observed phenom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Law of gravity describes what will happen when you drop an apple but doesn’t explain wh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15, 17, 19, &amp; 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cience is a Creative Enterpri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s human ingenuity with the desire to test everything against observed facts and rules of reason/log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cientific theories, models, etc. are human constru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es on inductive reasoning as much as deductive reaso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13, 20, 21, &amp; 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u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44211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2:11:56Z</dcterms:created>
  <dc:creator>College of Education</dc:creator>
  <dc:description/>
  <dc:language>en-US</dc:language>
  <cp:lastModifiedBy>elpalme</cp:lastModifiedBy>
  <dcterms:modified xsi:type="dcterms:W3CDTF">2011-09-01T20:44:01Z</dcterms:modified>
  <cp:revision>4</cp:revision>
  <dc:subject/>
  <dc:title>Nature of Science</dc:title>
</cp:coreProperties>
</file>