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530-99A0-4925-B606-36B29F70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964-25FB-45FC-8FC7-47E303B5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CC6-4D10-4D98-8A92-4DB0EA9B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5FB-43F1-4AD1-A049-D2439AD6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A4F-6858-4848-9AFF-81373156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DAC4-365F-460D-B705-87D4B58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590-4CD9-4616-9099-7E4F2F34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CFC3-FD39-4926-AF23-51F9B07E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648-737C-4178-8A8B-2AB3DD0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B1EA-4FE5-45EC-9294-8511DDC3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0BF0-98F9-47BF-B523-85DFFDD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01B-D48A-4A86-93A9-492A795C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1D32-F735-44C0-A142-780D670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3BE2-483E-4669-8EAB-8C8C1CE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77D-2CA7-45B7-9D7C-77084D5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4997-E221-48E3-863A-C2D07C83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F5D8-C27E-446B-8565-DE1F2AE0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C8A-B4BE-41CB-A133-A2D4FA98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2F9-0B09-4B79-93ED-A7B9D2E2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982-C701-4B01-A8A4-A873D084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B57-C585-4894-9DDD-A581F61A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B4C-5D82-429D-8B05-EAF416C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C9A-2A0B-460F-8669-42B24B96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017-BBF4-4B48-AFF2-DFF6C9E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77D-B755-4E6E-8813-C82446A5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94A-34AA-4E82-A4B5-E37539553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fidels.org/library/modern/richard_carrier/SciL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Nature of Scie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infidels.org/library/modern/richard_carrier/SciLi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Tent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duct of the judgment of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individuals to defend their conclusions by appeals to reason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truths are those that are agreed upon by all fully informed ob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thing certain about science is that it will always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2 &amp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cience is an Empirical System of Understanding the Physical Wor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ical in that knowledge is based on repeated practice and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n underlying supposition that data is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5, 6, 12, &amp;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in mi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unobservables (inductive reaso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influence by social or cultur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fundamentally an interpre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not a Single Meth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thods refers to the whole gamut of means and methods in the world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ct that science tests not just concepts but also methods and means also strengthens this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periments are a Goal-Oriented Form of Scientific Observ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is based on observations (as opposed to “science is based on experiment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re goal-oriented procedures (as opposed to scientists having no idea how they will turn 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ingle experiment can prove a theory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, 7, 9 &amp;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Theories are Explanations of Scientific Fac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s ar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explain the “why” or “how” behind those fa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use theories to guide further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ies change due to new data or connections between already know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4, 8, 14, 18, &amp; 2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cientific Laws are Descriptions of Nature’s Behavior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ientific law describes the relationships between observed phenom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Law of gravity describes what will happen when you drop an apple but doesn’t explain w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5, 17, 19, &amp;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cience is a Creative Enterpri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s human ingenuity with the desire to test everything against observed facts and rules of reason/log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cientific theories, models, etc. are human co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inductive reasoning as much as deductive reas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13, 20, 21, &amp;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442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2:11:56Z</dcterms:created>
  <dc:creator>College of Education</dc:creator>
  <dc:description/>
  <dc:language>en-US</dc:language>
  <cp:lastModifiedBy>elpalme</cp:lastModifiedBy>
  <dcterms:modified xsi:type="dcterms:W3CDTF">2011-09-01T20:44:01Z</dcterms:modified>
  <cp:revision>4</cp:revision>
  <dc:subject/>
  <dc:title>Nature of Science</dc:title>
</cp:coreProperties>
</file>