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5197-0142-4294-8CBC-86644977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446-83CB-4BB5-A285-D18968DA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9DDD-8D6B-4B3F-BEFB-862FADA5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C438-1444-48FB-BAB9-A44706C4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D42F-885A-4896-8E7C-93B90EFB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5E79-2D4A-43D7-BFDD-0994E608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242F-0501-42FF-85DB-428A5A23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BCDA-0A56-46D0-B2F9-A200892E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D2AC-CF2C-4F6E-93D9-223E5D2F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8D05-B3C9-4C9C-A8AC-19FD109C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2EE0-C1FC-4B89-9559-686F42C1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5F5-7EA4-45FA-AAB9-C2065B4D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DF68-929C-4E5A-8787-09A9C0F7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00E9-0F3C-4EF2-A3D1-A50899A4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FDB0-D040-4318-961D-81CF5E8D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E217-9526-4609-A490-00CC84C7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1938-F703-409A-9E63-C8D19EE1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32FC-E8FA-4F17-A65A-7EF03B4F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9FD6-3C90-49A7-90AC-C261DE0A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0AC1-6486-4CAA-B77E-B3F491E1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429D-9548-466E-8CB6-EA65ACBF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356A-1AC5-4DA1-957C-0CAB5C59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75F7-5B20-4B21-933A-3714CB21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D4D9-D148-4914-8A26-D6F5BBE0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0001-2A2F-4D80-BD67-F8168AA24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3335-7517-4197-90C9-F1F9A82B33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nfidels.org/library/modern/richard_carrier/SciLit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Nature of Scienc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ur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infidels.org/library/modern/richard_carrier/SciLit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cience is a Tentative Enterpri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duct of the judgment of indiv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individuals to defend their conclusions by appeals to reason and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tific truths are those that are agreed upon by all fully informed ob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nly thing certain about science is that it will always 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2 &amp;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Science is an Empirical System of Understanding the Physical World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irical in that knowledge is based on repeated practice and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n underlying supposition that data is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 5, 6, 12, &amp; 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in min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s unobservables (inductive reaso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influence by social or cultural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fundamentally an interpretive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cience is not a Single Metho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fic methods refers to the whole gamut of means and methods in the world of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act that science tests not just concepts but also methods and means also strengthens this discip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xperiments are a Goal-Oriented Form of Scientific Observatio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 is based on observations (as opposed to “science is based on experiment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s are goal-oriented procedures (as opposed to scientists having no idea how they will turn ou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ingle experiment can prove a theory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1, 7, 9 &amp;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cientific Theories are Explanations of Scientific Fact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ts are obser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ies explain the “why” or “how” behind those fa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sts use theories to guide further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ies change due to new data or connections between already know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4, 8, 14, 18, &amp; 2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cientific Laws are Descriptions of Nature’s Behavior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cientific law describes the relationships between observed phenom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Law of gravity describes what will happen when you drop an apple but doesn’t explain wh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15, 17, 19, &amp; 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cience is a Creative Enterpri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s human ingenuity with the desire to test everything against observed facts and rules of reason/log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cientific theories, models, etc. are human constru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es on inductive reasoning as much as deductive reaso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13, 20, 21, &amp; 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u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44211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2:11:56Z</dcterms:created>
  <dc:creator>College of Education</dc:creator>
  <dc:description/>
  <dc:language>en-US</dc:language>
  <cp:lastModifiedBy>elpalme</cp:lastModifiedBy>
  <dcterms:modified xsi:type="dcterms:W3CDTF">2011-09-01T20:44:01Z</dcterms:modified>
  <cp:revision>4</cp:revision>
  <dc:subject/>
  <dc:title>Nature of Science</dc:title>
</cp:coreProperties>
</file>