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3BC2-1AB3-4A21-B142-9305C653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C8E8-8001-4B6A-81A0-3A5C4600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EBE1-9121-4FDA-8032-3E595303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F40E-4814-4D8F-824F-86C6AB6F5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3399-6DC4-4710-A029-68CDCE55A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7F8F-89E2-412C-B5CB-2D575F33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36A0-E74F-4EA5-B548-E731E209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CF28-31B0-4840-9A58-E3E48ED7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0C2E-AB7E-4B0F-B794-E23578EC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1099-829F-42B0-9964-5FE3628A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6130-799B-4178-9DF3-A79EF247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8449-14CC-4D3E-9FB4-7EC3C681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1DDB-945F-4F01-9628-939CA2DB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4084-138C-4477-8DAF-E81DD869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7DBC-CD76-40B5-ADAC-5D0B35EF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6F67-B504-4123-BB8F-BD91E2B1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4D05-DD95-455A-86B8-BCF400CEB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08B4-9F47-4742-8B7D-3DCAEEED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05E3-39A8-49F1-828C-294B1B49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B00E-105A-44E0-AC52-44A276EF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197F-9097-473E-86C2-620412E4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D4F8-9981-47F9-A990-D79794BE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3E84-56C8-4D73-B734-50FE0D26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C9FD-5373-4717-B340-7204DA3B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C11E-94FE-40A6-A008-4C8603237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C779-AF4B-41B3-ADF3-806316608D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nfidels.org/library/modern/richard_carrier/SciLit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Nature of Scienc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ur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infidels.org/library/modern/richard_carrier/SciLit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cience is a Tentative Enterpri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duct of the judgment of individu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s individuals to defend their conclusions by appeals to reason and ev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ientific truths are those that are agreed upon by all fully informed ob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nly thing certain about science is that it will always ch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2 &amp;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Science is an Empirical System of Understanding the Physical World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irical in that knowledge is based on repeated practice and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an underlying supposition that data is tr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 5, 6, 12, &amp; 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in min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es unobservables (inductive reason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influence by social or cultural f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fundamentally an interpretive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cience is not a Single Metho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tific methods refers to the whole gamut of means and methods in the world of sc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act that science tests not just concepts but also methods and means also strengthens this discip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Experiments are a Goal-Oriented Form of Scientific Observation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ce is based on observations (as opposed to “science is based on experiments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s are goal-oriented procedures (as opposed to scientists having no idea how they will turn ou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single experiment can prove a theory tr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1, 7, 9 &amp;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cientific Theories are Explanations of Scientific Fact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ts are obser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ries explain the “why” or “how” behind those fa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tists use theories to guide further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ries change due to new data or connections between already known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4, 8, 14, 18, &amp; 2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cientific Laws are Descriptions of Nature’s Behavior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cientific law describes the relationships between observed phenom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Law of gravity describes what will happen when you drop an apple but doesn’t explain wh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15, 17, 19, &amp; 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cience is a Creative Enterpri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es human ingenuity with the desire to test everything against observed facts and rules of reason/log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cientific theories, models, etc. are human constru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es on inductive reasoning as much as deductive reaso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13, 20, 21, &amp; 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uc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44211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2:11:56Z</dcterms:created>
  <dc:creator>College of Education</dc:creator>
  <dc:description/>
  <dc:language>en-US</dc:language>
  <cp:lastModifiedBy>elpalme</cp:lastModifiedBy>
  <dcterms:modified xsi:type="dcterms:W3CDTF">2011-09-01T20:44:01Z</dcterms:modified>
  <cp:revision>4</cp:revision>
  <dc:subject/>
  <dc:title>Nature of Science</dc:title>
</cp:coreProperties>
</file>