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CBA-EDBF-4542-9891-31F7CA65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E7C-A2C7-4E91-A155-39BD7451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FB4-9666-464B-A2E3-3E164DE3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6CB-28CF-4D14-9AEA-6477A293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84D6-B90E-4511-BD6C-789AE556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1CE5-2F8C-4A26-B977-09FC924D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38A3-84C7-4F23-B697-7AAB0CFB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0A3D-2270-48FD-A66B-5F5DC69B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A26A-41B0-41D4-8AE3-EA8F7649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6DD7-2587-44FE-8173-67251185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999A-492B-4AC9-BB9F-BB055D03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854-9F09-43D5-BF1B-F19AE6C4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9E62-16A9-4C4D-901C-856E5650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3627-EE63-4CE5-A905-8816D396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22FE-63D8-47F3-8003-34869241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8E41-409A-4603-9DE1-5B098A06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816D-109D-471A-A4F0-DC3F87BF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D94-AE48-42D2-8B0F-880A7869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007-AB39-4688-9CD8-58E8C205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CFF-DC8C-484B-A4B0-B51C2DD9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EE6-7774-4BD3-AA87-77DA0AD2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B532-04CC-4EB5-81D1-25C5A7AB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733-83F0-4C90-9145-8E7429EC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08D-561C-4D64-BEA0-9CE5EAAA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BC6D-9611-4CE3-8D44-D1E40A889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626A-302B-4D21-95E5-531013CCC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fidels.org/library/modern/richard_carrier/SciLit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Nature of Scien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ur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infidels.org/library/modern/richard_carrier/SciLi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a Tentative Enterpri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duct of the judgment of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individuals to defend their conclusions by appeals to reason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fic truths are those that are agreed upon by all fully informed ob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ly thing certain about science is that it will always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 &amp;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Science is an Empirical System of Understanding the Physical World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irical in that knowledge is based on repeated practice and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n underlying supposition that data is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 5, 6, 12, &amp;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in min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unobservables (inductive reaso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influence by social or cultural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fundamentally an interpretive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not a Single Meth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fic methods refers to the whole gamut of means and methods in the world of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ct that science tests not just concepts but also methods and means also strengthens this 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xperiments are a Goal-Oriented Form of Scientific Observati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is based on observations (as opposed to “science is based on experiment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are goal-oriented procedures (as opposed to scientists having no idea how they will turn o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ingle experiment can prove a theory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, 7, 9 &amp;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cientific Theories are Explanations of Scientific Fac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s are obser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es explain the “why” or “how” behind those fa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sts use theories to guide further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es change due to new data or connections between already know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4, 8, 14, 18, &amp; 2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cientific Laws are Descriptions of Nature’s Behavior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cientific law describes the relationships between observed phenom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Law of gravity describes what will happen when you drop an apple but doesn’t explain w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15, 17, 19, &amp;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a Creative Enterpri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s human ingenuity with the desire to test everything against observed facts and rules of reason/log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cientific theories, models, etc. are human co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s on inductive reasoning as much as deductive reas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13, 20, 21, &amp;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u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4421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2:11:56Z</dcterms:created>
  <dc:creator>College of Education</dc:creator>
  <dc:description/>
  <dc:language>en-US</dc:language>
  <cp:lastModifiedBy>elpalme</cp:lastModifiedBy>
  <dcterms:modified xsi:type="dcterms:W3CDTF">2011-09-01T20:44:01Z</dcterms:modified>
  <cp:revision>4</cp:revision>
  <dc:subject/>
  <dc:title>Nature of Science</dc:title>
</cp:coreProperties>
</file>