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0504F-3069-49E0-8510-F09501E99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19D41-6AA9-44B2-8520-1F061E271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B8D33-FF36-48D3-902A-2772516D7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AE12E-A1EA-4671-BF09-9F902BE22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1DF78-D048-46F6-9EF6-9BBE0AB2D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C651E-665E-4E19-8932-5E695445C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E3366-A71F-4DFD-B375-ED7DA2ECF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06F7D-FEE0-465E-9525-93B7D5521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D3336-ABDA-4D8E-9F0A-8A19DB78E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83AD0-8C75-4541-86CF-6112CB2B1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0D259-E25D-4D51-9D78-11B00A105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CAE41-D138-42A0-A544-89B946FBF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3CF1D-99EE-47FE-8995-E9CC7E6D6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90062-C507-4796-B99F-18111BACB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6F592-3F3F-4A38-8EB4-2C77EF96A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AC18C-5781-4546-9F45-D9B8E665F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B5F8F-3641-4D6C-9B56-2C33CE780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9949D-D0A5-42FB-8D67-43BD96472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77F88-23B3-47EC-A229-BDFAE2D05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B7069-36FB-45ED-9B97-C548330E6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938E8-D597-4BBB-B301-50A6D5F34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0FD91-A2EA-46C8-B45D-6B5D77AE2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E8F38-68A0-4C36-AB8D-821E28723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0C349-513A-49BE-A9D5-AB2D4F399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6C0D0-A823-48D4-90FA-2C9F4B7636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81D66-96FA-4ABE-A65A-844F60D238F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infidels.org/library/modern/richard_carrier/SciLit.html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Nature of Science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Sourc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ff66"/>
                </a:solidFill>
                <a:uFillTx/>
                <a:latin typeface="Arial"/>
                <a:hlinkClick r:id="rId1"/>
              </a:rPr>
              <a:t>http://www.infidels.org/library/modern/richard_carrier/SciLit.htm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Science is a Tentative Enterpris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product of the judgment of individua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quires individuals to defend their conclusions by appeals to reason and evide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cientific truths are those that are agreed upon by all fully informed obser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only thing certain about science is that it will always chang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#2 &amp; 1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b7"/>
                </a:solidFill>
                <a:latin typeface="Arial Black"/>
              </a:rPr>
              <a:t>Science is an Empirical System of Understanding the Physical World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mpirical in that knowledge is based on repeated practice and tes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e is an underlying supposition that data is tru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# 5, 6, 12, &amp; 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eep in mind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cludes unobservables (inductive reasoni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n be influence by social or cultural facto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s fundamentally an interpretive activ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Science is not a Single Method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cientific methods refers to the whole gamut of means and methods in the world of scie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fact that science tests not just concepts but also methods and means also strengthens this discip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#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Experiments are a Goal-Oriented Form of Scientific Observation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cience is based on observations (as opposed to “science is based on experiments”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periments are goal-oriented procedures (as opposed to scientists having no idea how they will turn ou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 single experiment can prove a theory tru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#1, 7, 9 &amp; 1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Scientific Theories are Explanations of Scientific Facts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acts are observ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ories explain the “why” or “how” behind those fac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cientists use theories to guide further resear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ories change due to new data or connections between already known da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# 4, 8, 14, 18, &amp; 22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Scientific Laws are Descriptions of Nature’s Behavior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scientific law describes the relationships between observed phenome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ample: Law of gravity describes what will happen when you drop an apple but doesn’t explain wh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# 15, 17, 19, &amp; 2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Science is a Creative Enterpris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bines human ingenuity with the desire to test everything against observed facts and rules of reason/logi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 scientific theories, models, etc. are human construct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lies on inductive reasoning as much as deductive reason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# 13, 20, 21, &amp; 2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Lucy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5" name="Picture 3" descr=""/>
          <p:cNvPicPr/>
          <p:nvPr/>
        </p:nvPicPr>
        <p:blipFill>
          <a:blip r:embed="rId1"/>
          <a:stretch/>
        </p:blipFill>
        <p:spPr>
          <a:xfrm>
            <a:off x="2743200" y="1295280"/>
            <a:ext cx="442116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1T02:11:56Z</dcterms:created>
  <dc:creator>College of Education</dc:creator>
  <dc:description/>
  <dc:language>en-US</dc:language>
  <cp:lastModifiedBy>elpalme</cp:lastModifiedBy>
  <dcterms:modified xsi:type="dcterms:W3CDTF">2011-09-01T20:44:01Z</dcterms:modified>
  <cp:revision>4</cp:revision>
  <dc:subject/>
  <dc:title>Nature of Science</dc:title>
</cp:coreProperties>
</file>